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5F54-18C0-42FD-BAEF-7DCADBE1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4BF-16A2-4050-8584-150E3812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D779-CDB4-46CB-AFE2-9DE3264E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D7B-EA80-41B5-B730-A89FB19F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6494-27DB-4570-B7A6-8EC8DC23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0E6-888D-4A60-8A84-17E5DEDB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5A6-55AB-4EC3-AD29-EA29D339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3323-2B16-4F1C-9052-766ECC1B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545-A8ED-4D70-AFC6-1C43ADB1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7E2-F7EA-4455-8480-1CAFCC6C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A9F-66AC-455B-AE83-47687175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F8B7-0435-4747-A1F0-DAE69306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5F47-3521-4BC1-A119-F76925214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3.5 Objectiv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ich figure is a polyg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Hexagon 3"/>
          <p:cNvSpPr/>
          <p:nvPr/>
        </p:nvSpPr>
        <p:spPr>
          <a:xfrm>
            <a:off x="380880" y="1981080"/>
            <a:ext cx="2590920" cy="228600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" name="Elbow Connector 7"/>
          <p:cNvCxnSpPr/>
          <p:nvPr/>
        </p:nvCxnSpPr>
        <p:spPr>
          <a:xfrm flipH="1" rot="16200000">
            <a:off x="6324480" y="2361600"/>
            <a:ext cx="2515320" cy="1905840"/>
          </a:xfrm>
          <a:prstGeom prst="bentConnector3">
            <a:avLst>
              <a:gd name="adj1" fmla="val 50000"/>
            </a:avLst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45" name="Sun 8"/>
          <p:cNvSpPr/>
          <p:nvPr/>
        </p:nvSpPr>
        <p:spPr>
          <a:xfrm>
            <a:off x="3352680" y="1752480"/>
            <a:ext cx="2667240" cy="281952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2:44:58Z</dcterms:created>
  <dc:creator>2012Taormira</dc:creator>
  <dc:description/>
  <dc:language>en-US</dc:language>
  <cp:lastModifiedBy>2012Taormira</cp:lastModifiedBy>
  <dcterms:modified xsi:type="dcterms:W3CDTF">2009-11-06T12:49:48Z</dcterms:modified>
  <cp:revision>1</cp:revision>
  <dc:subject/>
  <dc:title>Section 3.5 Objective 1</dc:title>
</cp:coreProperties>
</file>